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A92-9A4A-412B-B526-BBAFF536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F77-E44D-46BA-86BB-9E468180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F0A-9FAE-4B10-B1F9-7A53807E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8B9-F701-4CEF-BA37-BA605671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437-95F5-47B0-B806-55ABA312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953-2A32-41B9-9387-E9EA1833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996-D2EE-49CB-B58C-F4606586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B48-3CB3-4289-ACF3-E7DE7D00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15B-4245-4A1A-A618-FD6E45E0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F48-A6F3-4956-B34A-E8BB9722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1B0-C1D3-4729-A420-B7E9D4EA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E90-A748-4BB4-B667-5653EB57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E746-7FD8-4C3F-BBDF-1ADB383EDC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2.xml"/><Relationship Id="rId4" Type="http://schemas.openxmlformats.org/officeDocument/2006/relationships/slide" Target="slide32.xml"/><Relationship Id="rId5" Type="http://schemas.openxmlformats.org/officeDocument/2006/relationships/slide" Target="slide4.xml"/><Relationship Id="rId6" Type="http://schemas.openxmlformats.org/officeDocument/2006/relationships/slide" Target="slide14.xml"/><Relationship Id="rId7" Type="http://schemas.openxmlformats.org/officeDocument/2006/relationships/slide" Target="slide24.xml"/><Relationship Id="rId8" Type="http://schemas.openxmlformats.org/officeDocument/2006/relationships/slide" Target="slide34.xml"/><Relationship Id="rId9" Type="http://schemas.openxmlformats.org/officeDocument/2006/relationships/slide" Target="slide6.xml"/><Relationship Id="rId10" Type="http://schemas.openxmlformats.org/officeDocument/2006/relationships/slide" Target="slide16.xml"/><Relationship Id="rId11" Type="http://schemas.openxmlformats.org/officeDocument/2006/relationships/slide" Target="slide26.xml"/><Relationship Id="rId12" Type="http://schemas.openxmlformats.org/officeDocument/2006/relationships/slide" Target="slide36.xml"/><Relationship Id="rId13" Type="http://schemas.openxmlformats.org/officeDocument/2006/relationships/slide" Target="slide8.xml"/><Relationship Id="rId14" Type="http://schemas.openxmlformats.org/officeDocument/2006/relationships/slide" Target="slide18.xml"/><Relationship Id="rId15" Type="http://schemas.openxmlformats.org/officeDocument/2006/relationships/slide" Target="slide28.xml"/><Relationship Id="rId16" Type="http://schemas.openxmlformats.org/officeDocument/2006/relationships/slide" Target="slide38.xml"/><Relationship Id="rId17" Type="http://schemas.openxmlformats.org/officeDocument/2006/relationships/slide" Target="slide10.xml"/><Relationship Id="rId18" Type="http://schemas.openxmlformats.org/officeDocument/2006/relationships/slide" Target="slide20.xml"/><Relationship Id="rId19" Type="http://schemas.openxmlformats.org/officeDocument/2006/relationships/slide" Target="slide30.xml"/><Relationship Id="rId20" Type="http://schemas.openxmlformats.org/officeDocument/2006/relationships/slide" Target="slide40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685800"/>
          <a:ext cx="8153280" cy="5440320"/>
        </p:xfrm>
        <a:graphic>
          <a:graphicData uri="http://schemas.openxmlformats.org/drawingml/2006/table">
            <a:tbl>
              <a:tblPr/>
              <a:tblGrid>
                <a:gridCol w="2039760"/>
                <a:gridCol w="2038680"/>
                <a:gridCol w="2036520"/>
                <a:gridCol w="2038320"/>
              </a:tblGrid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ysse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erary Term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 &amp; J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compares heroic or epic events to simple everyday even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Homeric simi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simi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comparison of two unlike things using “like” or “as”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metapho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comparison of two unlike things without using “like” or “as”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iron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when something happens that is the opposite of what you’d exp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n allus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reference to a statement, person, place, or event from literatur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o is Cyclop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personificat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giving human characteristics to a nonhuman thing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o is Queen Mab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he Queen of Fairi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person has knowledge of the medicinal powers of plan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Friar Laurenc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does Mercutio mean when he says, “Why the devil came you between us? I was hurt under your arm?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hat Romeo is responsible for Mercutio’s death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/she was insulted by Mercutio’s crude jok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Nurs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Poseidon’s one-eyed monster s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o says at the end of the play that, “All are punished?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Prince Escalu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nonfict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something that is real or has happene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fine what Friar Laurence means when he says, “Wisely and slow; they stumble that run fast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people who fall in love fast fall out of love quick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sepulch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private burial vaul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betrotha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he engagement of two peop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type of literature is “The Odyssey?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“distilling liquor” Friar Laurence gives Juliet is wha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potion that makes her appear dea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2096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pic poe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other name does Odysseus go by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Nobody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ype of hero is Odysseu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tragic her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19:13:10Z</dcterms:created>
  <dc:creator>ORA</dc:creator>
  <dc:description/>
  <dc:language>en-US</dc:language>
  <cp:lastModifiedBy>ORA</cp:lastModifiedBy>
  <dcterms:modified xsi:type="dcterms:W3CDTF">2013-06-10T14:50:40Z</dcterms:modified>
  <cp:revision>35</cp:revision>
  <dc:subject/>
  <dc:title>Slide 1</dc:title>
</cp:coreProperties>
</file>